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dt" idx="3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move the slid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 type="ftr" idx="3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 type="sldNum" idx="3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7AE7-C1BB-40E3-81B2-C146DE85C5B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BE17-2324-4052-8AE6-1551CD08DD35}" type="slidenum">
              <a:rPr b="0" lang="en-GB" sz="1200" spc="-1" strike="noStrike">
                <a:solidFill>
                  <a:srgbClr val="00468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6F00CC-4F51-42A8-8678-FD7EA895D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E81A93-C7FF-4ED7-9596-0AF7937F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C1DFA2-39DD-4FA7-A18A-51CA88A47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515AD1-CEF3-4F69-B65E-AE79BB14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B2CE170-B879-44EF-9093-440C4B88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EF1282-A941-4F0D-AE4E-D3DC3E57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B8FBBF-78BF-403A-A8CC-C9CB1939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C7FC8C-B19F-4266-9C5C-8BD5D97ED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94A72A-1AE4-4E40-91E8-60E5A65F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FAAE6F-6A0E-4FD9-99B5-9B41D92AD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3D7FA-A3FD-4939-BC48-76BF8A9C1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456B9E-3156-4DF2-A2F1-4457BEFA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339307-E240-4F94-A443-9FF573C65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64B7C8-9F38-40EB-B94E-E75E9775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8AC3E3-3485-4B25-9AE8-D0C54869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F7AA4C-E512-4F72-94AE-2631A4E1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6B2A47-246E-4B70-9DF6-B04D33B94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A0E6F6-E180-4D10-87B6-881C4A26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1DCCBA-F171-4872-8502-9BEA8B0E7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3E65B5-F47C-431D-BB02-9746B1A2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EAD738-D90F-430F-ABFD-A41DB3417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4C78852-BBEC-4A13-8B85-B8C8EA8E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25856C4-91D5-42B4-99FA-31B62370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62C64C-2288-4E26-A093-5770688A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310AF0A-BEDA-46CE-8847-9DE89881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84717C-89EF-4298-AA56-199A79DD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63C3297-2660-439F-A939-1EAB32B5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08DFD52-1197-4AA1-B392-695223365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187E04-3CB1-4B5E-90EC-06C7835E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31355E6-38A7-418E-BAE7-1B5163B3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86E02-D0B8-4E21-A287-5F2747998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C598E0-7F1D-4BEA-8803-701FB190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3E55A1-50CC-477D-BB51-D7B90B01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4F1797A-8A09-4959-98FF-FA016F0B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42B98D9-0A05-4AA9-B189-B42DF12DA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4098F7-A42B-4269-9688-0A8DE421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5FE38DF-5FFF-43B4-A7DC-72652190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AC46F3-03C1-4B54-8F68-023100DC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24F090-7A05-45FF-AAB3-DAD74120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BBEB2F-A457-4B03-AC5C-0BCC0C5F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9A181D8-72DB-4A7B-867C-03661859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A8CCEE-26C1-4EC9-A16F-A83CF6717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DE22C57-AE35-4B8A-92CA-B414F00B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607162-6405-4FE8-BFD0-4BA191F6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662A005-0254-47B4-8415-9D4AE8BF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E02E920-F617-4A64-85A5-9BF2BA0D5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8353819-5BF5-435C-A363-87F17B4CC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11DD4-85FD-4037-A60A-0190EAC9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FA547-63AF-429F-8C00-3759DEB6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1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694800-95CA-4F4D-94EE-F4007417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30DAE-F246-4EBF-A9D9-7F8DE7206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D80F6-ED02-439E-976E-58405684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5D22F2-E11B-4673-8F6A-0B6D8F12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DADE5-3DE8-44F4-A617-E8602579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36529-A01C-40CF-A085-314D8A549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44C22-FB38-4DAB-8824-89AD89F2C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6FE2E-DAC7-4703-9812-CC84FA7E7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3A160-4055-4FFC-9C45-750EACB3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1B9D56-5008-4116-9D6C-40968C91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AAD47-87ED-4FD1-A551-9F558E68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A03A91-7635-452A-91E1-E908A2DCF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C55332-9619-426A-935E-DF86520C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6A09D9-17E1-4598-97D0-AA8280FC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8E5CB4-9923-433A-850D-76101EAB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45DF0F-254D-480F-933C-34232EFB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34B236-2BD9-40A3-81B7-A1F55973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84272-94C8-4F1B-85B9-0ADE5961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636A3D-8497-451A-8C20-74507F94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200FF-EEBE-4D4E-AFE7-4107D974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F923EF-9BF8-4C32-A51C-DB7FCDB9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CCC787-C599-4F9B-9EAB-64A6DEF0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4FD780-09FE-4FED-AAC0-D3BE33BB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2EF454-B835-4182-AFB9-3A875876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254278-303C-45CD-A869-569F9EF98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1655B5-306B-4C20-B256-C493CDCA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21D2A1-3B68-4F3E-95C4-01B4AF38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A2200C-E4AA-404A-8834-CF9223EE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752E2F-1B8D-45DC-85DD-D71E164A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94E51B-CA2D-4011-BAE3-7C1BE64D8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205FC23-4E64-4B95-841D-05F17149C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DEE03D-9B8B-4A2C-9D15-1FC944E89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22DD28-0B3A-4A90-90C0-287F382E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B8CC8B-2817-46ED-8B82-CEBEE4F0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828A52-4ABD-4CF8-9434-C657E82A7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51A005-BE24-4BBE-8C16-56F99D24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7612CD-227B-45DF-BA07-97A1C8AA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15D10D-8F2E-43A4-9FE2-FECA2B3C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0D011B-8C0E-49D7-9998-E15C3D8E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A6D1F2-F4E9-4212-B91D-083637B9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D07327-84D3-407D-BCFE-4EBAAE7B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70C3BB-F87F-4D1E-98EB-04AFDAE7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388AFF-9097-41B4-AB22-9C21F36C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30736C-B4E1-4CBE-91A2-0AD6A7832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B9B561-BE55-46D3-9529-7C3EBDCB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F4CE57-70BF-42C7-B6CD-6E7E20A1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B629ED-4D59-46A3-AE54-5DA38D91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AD0B35-8781-488A-A149-CA2D0EAE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6F3C1E-8D0D-42E8-9924-A8C45D99A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7F34AA-B21F-46B4-86FE-F6C5F4D8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53B0BB-4E27-49D1-BF94-E4D36940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7CCFEC-F72F-4030-B4E8-E2F1F3FC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A5209C-8D2B-4571-BECB-A97A1AF5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CB035C-BA92-4D1A-8E4C-356AA319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1B6EE8-B104-4C94-9F64-0F4ED15F7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93A78C-58D5-44C7-AD1C-1537F1742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AF39B7-E262-4953-91C1-3F8F4C52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9383DC-0F83-455C-BCA6-1DAE6A33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A708BD-17D1-4CA4-AA02-00B14C63A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45AE34-393F-4155-BEC9-D6009EF0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9B99DB-8C26-45E6-978F-5E06A44F9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4A648E-6764-490F-9570-21B6287E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95BF8A-2CAA-4858-9BB5-756FBFC1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F6564C-FED8-4D37-813C-E417C41F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83B922-C86A-4C58-9402-72F6C961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2C3874-CE98-490F-BA6C-72FE90361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5A0B21-C653-4C89-9035-D2A897CA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5DD411-54D7-4231-93F6-A98B7EEA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C64F6E-AF14-4F5E-BCAD-BEF970B70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2CCE89-5B16-49B4-ABA6-342212D5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CCD209A-51F9-45E5-920D-1C30D5C4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5719C4-515A-4D63-B8A8-25606C97C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2AAA77D-E3C6-4ED0-8BE3-BD71E46A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7E9E460-7AC0-4373-B14D-8A3556D8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82A9D0-B76B-4941-9054-43168A90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78F90A-651A-4E9B-8581-670E8A71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F0E44E-C3EC-4D89-A7E7-C5598C2D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69C23E2-6783-4EC9-9295-1601242F4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8FECF9-28B5-42B4-AC93-6A6795FEF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A36CFE-DB85-405E-AE99-AC771AFC1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EE9680-3EE5-4BE6-8D34-A51AC459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8C531B8-C9F0-4799-80F5-E3E794A6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1602EF-8477-4798-9083-F72A2CD9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6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5" name="Rectangle 11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7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28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C0FA-1E54-4721-B5CC-EC1390A0C981}" type="slidenum"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29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45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9A1F-71B4-447C-892D-F856388F3C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6" name="Rectangle 11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3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4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5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B81A-46A3-47F1-853F-171208F70A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10" descr=""/>
          <p:cNvPicPr/>
          <p:nvPr/>
        </p:nvPicPr>
        <p:blipFill>
          <a:blip r:embed="rId2"/>
          <a:srcRect l="41833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10" descr=""/>
          <p:cNvPicPr/>
          <p:nvPr/>
        </p:nvPicPr>
        <p:blipFill>
          <a:blip r:embed="rId2"/>
          <a:srcRect l="42014" t="0" r="4533" b="0"/>
          <a:stretch/>
        </p:blipFill>
        <p:spPr>
          <a:xfrm>
            <a:off x="-11160" y="3476520"/>
            <a:ext cx="9155160" cy="338148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5" descr=""/>
          <p:cNvPicPr/>
          <p:nvPr/>
        </p:nvPicPr>
        <p:blipFill>
          <a:blip r:embed="rId3"/>
          <a:stretch/>
        </p:blipFill>
        <p:spPr>
          <a:xfrm>
            <a:off x="7156440" y="290520"/>
            <a:ext cx="1714680" cy="1187280"/>
          </a:xfrm>
          <a:prstGeom prst="rect">
            <a:avLst/>
          </a:prstGeom>
          <a:ln w="0">
            <a:noFill/>
          </a:ln>
        </p:spPr>
      </p:pic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0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a2e2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a2e2"/>
              </a:solidFill>
              <a:latin typeface="Tw Cen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4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5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a2e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B399-4C75-423A-92B7-593F3EAC8A25}" type="slidenum">
              <a:rPr b="0" lang="en-US" sz="2400" spc="-1" strike="noStrike">
                <a:solidFill>
                  <a:srgbClr val="00a2e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8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BD7A0-A116-46DA-965C-4EE4A70DB3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0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3B19-7374-4885-B8E8-BFFA15AC4D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ftr" idx="11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1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183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sldNum" idx="13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1811-C0D3-47D7-B5F9-1C27D569732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14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7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B10E-77A4-4C65-98CB-8C8B1E555A6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3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275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0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AD0D-078F-437C-AA13-93B6F576A0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3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A6BD-972B-4375-8198-7B2E2348FD5B}" type="slidenum">
              <a:rPr b="0" lang="en-US" sz="2400" spc="-1" strike="noStrike">
                <a:solidFill>
                  <a:srgbClr val="004685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0046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0" name="Picture 10" descr=""/>
          <p:cNvPicPr/>
          <p:nvPr/>
        </p:nvPicPr>
        <p:blipFill>
          <a:blip r:embed="rId2"/>
          <a:stretch/>
        </p:blipFill>
        <p:spPr>
          <a:xfrm>
            <a:off x="8112240" y="401760"/>
            <a:ext cx="860400" cy="59508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12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00a2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pic>
        <p:nvPicPr>
          <p:cNvPr id="362" name="Picture 10" descr=""/>
          <p:cNvPicPr/>
          <p:nvPr/>
        </p:nvPicPr>
        <p:blipFill>
          <a:blip r:embed="rId3">
            <a:lum bright="70000" contrast="-70000"/>
          </a:blip>
          <a:srcRect l="41835" t="0" r="4303" b="0"/>
          <a:stretch/>
        </p:blipFill>
        <p:spPr>
          <a:xfrm>
            <a:off x="-17640" y="3495600"/>
            <a:ext cx="9171000" cy="336240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4685"/>
                </a:solidFill>
                <a:latin typeface="Tw Cen MT"/>
              </a:rPr>
              <a:t>Click to edit the title text format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004685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00a2e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004685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a2e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468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24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468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468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4685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6"/>
          </p:nvPr>
        </p:nvSpPr>
        <p:spPr>
          <a:xfrm>
            <a:off x="-67464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A4AD7-C566-43A4-A360-CB7AF1200F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306360" y="2641320"/>
            <a:ext cx="663264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Staff Governance Board Updat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4685"/>
                </a:solidFill>
                <a:latin typeface="Tw Cen MT"/>
              </a:rPr>
              <a:t>May 2022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bsen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12720" y="461808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6% in March 2022 - same a previous month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Potential audit of mental health related absence to assess proportion of non-work related absence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st of living pressures may feed into absence rates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  <a:p>
            <a:pPr marL="277200" indent="-27720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4685"/>
                </a:solidFill>
                <a:latin typeface="Tw Cen MT"/>
              </a:rPr>
              <a:t>Consideration of risk related to cost of living for board risk register</a:t>
            </a:r>
            <a:endParaRPr b="0" lang="en-US" sz="2000" spc="-1" strike="noStrike">
              <a:solidFill>
                <a:srgbClr val="004685"/>
              </a:solidFill>
              <a:latin typeface="Tw Cen MT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146240" y="1558800"/>
            <a:ext cx="69595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Appraisal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Agenda for change appraisal rate 52% in March 2022 – a  number of appraisals completed at this time last year now due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Medical appraisal rate 84% in March 2022 (124/148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68.7% Job Plans complete for 2022/2023 (79/115)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4685"/>
                </a:solidFill>
                <a:latin typeface="Tw Cen MT"/>
              </a:rPr>
              <a:t>Workforce</a:t>
            </a:r>
            <a:endParaRPr b="0" lang="en-US" sz="4000" spc="-1" strike="noStrike">
              <a:solidFill>
                <a:srgbClr val="004685"/>
              </a:solidFill>
              <a:latin typeface="Tw Cen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International recruitment has commenced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4685"/>
                </a:solidFill>
                <a:latin typeface="Tw Cen MT"/>
              </a:rPr>
              <a:t>Successful recruitment event in eye centre – learning from this will inform future events</a:t>
            </a: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00a2e2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468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3:33:31Z</dcterms:created>
  <dc:creator>Martin Clark</dc:creator>
  <dc:description/>
  <dc:language>en-US</dc:language>
  <cp:lastModifiedBy>Gareth Adkins</cp:lastModifiedBy>
  <dcterms:modified xsi:type="dcterms:W3CDTF">2022-05-23T08:24:41Z</dcterms:modified>
  <cp:revision>221</cp:revision>
  <dc:subject/>
  <dc:title>West of Scotland  Cardio-Thoracic Surgery Centre  Engagement Event</dc:title>
</cp:coreProperties>
</file>